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29F-1538-4624-8CE3-1E2DED42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A42-143A-4651-990B-8B613A87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936-C422-4FAD-B63E-CF54B513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50C-8A8B-438D-BCC7-58D37612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C156-D17D-453B-B725-4DE2E926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3E98-8303-4FD0-A5C1-30538ECC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9F46-5ED9-475E-B676-C292F161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E27E-4D72-4C5F-A7CC-09B22D70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938A-61D1-4120-91FE-1A46F036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4094-B1D8-4C7C-B3C0-F5E02545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844F-E48D-4648-857C-2FE2803B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9B0-572A-4C75-A5A9-F8D7140C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063B-E8C5-46FB-8C4B-0071634B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D4ED-D5EE-4244-A5D7-01965D80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BFC9-59CA-4E47-A3A8-85EF7008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8DB2-2856-4B0B-A24B-0A0A1E0C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D512-80EC-4716-BE32-A7FA4177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D9D0-E895-496E-BF3C-F6A53AC8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08F-951B-48D7-90F9-241166A6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739-B4A8-42D2-9A64-8CD76346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2B4A-52B6-4E07-9379-5CE59E03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B08E-1581-469D-9B01-73CBEBA9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792-D219-4951-86D4-BF475504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90C-E1BC-4AE7-BF1F-647346BC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C071-45A9-453B-AC9B-882806E65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527F-DDFE-4547-9394-D553620711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4.wmf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wmf"/><Relationship Id="rId4" Type="http://schemas.openxmlformats.org/officeDocument/2006/relationships/slide" Target="slide3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.wmf"/><Relationship Id="rId4" Type="http://schemas.openxmlformats.org/officeDocument/2006/relationships/slide" Target="slide3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wmf"/><Relationship Id="rId3" Type="http://schemas.openxmlformats.org/officeDocument/2006/relationships/slide" Target="slide3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wmf"/><Relationship Id="rId3" Type="http://schemas.openxmlformats.org/officeDocument/2006/relationships/slide" Target="slide3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4.wmf"/><Relationship Id="rId4" Type="http://schemas.openxmlformats.org/officeDocument/2006/relationships/slide" Target="slide3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wmf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wmf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wmf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solidFill>
            <a:srgbClr val="a0b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383a66"/>
                </a:solidFill>
                <a:latin typeface="Bitstream Vera Sans Mono"/>
              </a:rPr>
              <a:t>Sistema Integrado de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900000" y="5157720"/>
            <a:ext cx="7320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Módulo GPRS para recepción en 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la recepción de módulos GPRS a través de RED en protocolo TCP/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tretch/>
        </p:blipFill>
        <p:spPr>
          <a:xfrm>
            <a:off x="2050920" y="2014560"/>
            <a:ext cx="1866960" cy="2828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2"/>
          <a:stretch/>
        </p:blipFill>
        <p:spPr>
          <a:xfrm>
            <a:off x="4284720" y="1268280"/>
            <a:ext cx="3344760" cy="362268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8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64" name="Picture 9" descr="j0293240"/>
            <p:cNvPicPr/>
            <p:nvPr/>
          </p:nvPicPr>
          <p:blipFill>
            <a:blip r:embed="rId3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10">
              <a:hlinkClick r:id="rId4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9 Flecha derecha">
            <a:hlinkClick r:id="rId5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4"/>
          <p:cNvSpPr/>
          <p:nvPr/>
        </p:nvSpPr>
        <p:spPr>
          <a:xfrm>
            <a:off x="934920" y="4941720"/>
            <a:ext cx="7272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Conexión IP a receptores System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habilitar la automatización de recepción de eventos a través de Puerto TCP/IP omitiendo la conexión de cable serial</a:t>
            </a: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tretch/>
        </p:blipFill>
        <p:spPr>
          <a:xfrm>
            <a:off x="4572000" y="620640"/>
            <a:ext cx="3449520" cy="3857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3000240" cy="12096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8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71" name="Picture 9" descr="j0293240"/>
            <p:cNvPicPr/>
            <p:nvPr/>
          </p:nvPicPr>
          <p:blipFill>
            <a:blip r:embed="rId3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10">
              <a:hlinkClick r:id="rId4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9 Flecha derecha">
            <a:hlinkClick r:id="rId5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971640" y="4869000"/>
            <a:ext cx="72723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Envío automático de correos electrón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el envío automático de correos cada vez que se reciba un evento marcado para enviar reporte a través de un servidor SMT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565200" y="1886040"/>
            <a:ext cx="4006800" cy="1779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4788000" y="765000"/>
            <a:ext cx="3816360" cy="290052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7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78" name="Picture 8" descr="j0293240"/>
            <p:cNvPicPr/>
            <p:nvPr/>
          </p:nvPicPr>
          <p:blipFill>
            <a:blip r:embed="rId3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9">
              <a:hlinkClick r:id="rId4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9 Flecha derecha">
            <a:hlinkClick r:id="rId5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9 Flecha derecha"/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8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83" name="Picture 9" descr="j0293240"/>
            <p:cNvPicPr/>
            <p:nvPr/>
          </p:nvPicPr>
          <p:blipFill>
            <a:blip r:embed="rId1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10"/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692360" y="404640"/>
            <a:ext cx="5745240" cy="429264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971640" y="4869000"/>
            <a:ext cx="7272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Envío automático de Mensajes 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el envío automático de mensajes cada vez que se reciba un evento marcado para enviar reporte a través de un Módem GSM hasta 8 números telefón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9 Flecha derecha"/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8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89" name="Picture 9" descr="j0293240"/>
            <p:cNvPicPr/>
            <p:nvPr/>
          </p:nvPicPr>
          <p:blipFill>
            <a:blip r:embed="rId1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10"/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208080" y="981000"/>
            <a:ext cx="4147920" cy="23511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572000" y="620640"/>
            <a:ext cx="4248000" cy="30211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971640" y="4869000"/>
            <a:ext cx="72723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Reportes WEB a través de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al Cliente acceder a su Cuenta de Monitoreo Vía Internet y obtener reportes del sistema de monitoreo de forma direc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971640" y="4829040"/>
            <a:ext cx="72007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8 Imágenes por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ingresar 8 imágenes referentes a Áreas sensibles, Plano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El Operador en caso de un evento emergente puede guiar de mejor manera a la patrulla de apoyo durante la verificación físic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472000" cy="416700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6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97" name="Picture 7" descr="j0293240"/>
            <p:cNvPicPr/>
            <p:nvPr/>
          </p:nvPicPr>
          <p:blipFill>
            <a:blip r:embed="rId2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8">
              <a:hlinkClick r:id="rId3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8 Flecha derecha"/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971640" y="4941720"/>
            <a:ext cx="72007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Manejo de Particiones Intelig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1600" spc="-1" strike="noStrike">
                <a:solidFill>
                  <a:srgbClr val="ffffff"/>
                </a:solidFill>
                <a:latin typeface="Arial"/>
              </a:rPr>
              <a:t>Permite administrar por particiones independientes, únicamente con una cuenta universal el sistema identifica de que particón se recibe el evento, toda la información referente a la partición es independiente, horarios, usuarios, zonas, test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1809720" y="561960"/>
            <a:ext cx="5524560" cy="433548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6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303" name="Picture 7" descr="j0293240"/>
            <p:cNvPicPr/>
            <p:nvPr/>
          </p:nvPicPr>
          <p:blipFill>
            <a:blip r:embed="rId2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8">
              <a:hlinkClick r:id="rId3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8 Flecha derecha">
            <a:hlinkClick r:id="rId4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1809720" y="260280"/>
            <a:ext cx="5524560" cy="43354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5"/>
          <p:cNvSpPr/>
          <p:nvPr/>
        </p:nvSpPr>
        <p:spPr>
          <a:xfrm>
            <a:off x="857160" y="4595760"/>
            <a:ext cx="73882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Organización de recepción por Es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organizar la recepción independizada por est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Ejemplo, si el cliente se muestra en Estación 1 los eventos no se muestran en otras estaciones y tampoco los eventos de estas en la Estación 1, si la estación no está abierta se muestran los eventos en el Servid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6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309" name="Picture 7" descr="j0293240"/>
            <p:cNvPicPr/>
            <p:nvPr/>
          </p:nvPicPr>
          <p:blipFill>
            <a:blip r:embed="rId2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8">
              <a:hlinkClick r:id="rId3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8 Flecha derecha">
            <a:hlinkClick r:id="rId4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4"/>
          <p:cNvSpPr/>
          <p:nvPr/>
        </p:nvSpPr>
        <p:spPr>
          <a:xfrm>
            <a:off x="971640" y="4869000"/>
            <a:ext cx="720072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Recordatorio de Ev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ingresar eventos de alerta adicionales ya sea por Consignas o Mensajes Emergentes del Clie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Ejemplo si un cliente se va de vacaciones, configuramos para que el sistema muestre una alerta cuando se reciba un event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5432400" cy="34722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5076720" y="1886040"/>
            <a:ext cx="3791160" cy="298296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7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316" name="Picture 8" descr="j0293240"/>
            <p:cNvPicPr/>
            <p:nvPr/>
          </p:nvPicPr>
          <p:blipFill>
            <a:blip r:embed="rId3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9">
              <a:hlinkClick r:id="rId4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9 Flecha derecha">
            <a:hlinkClick r:id="rId5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971640" y="4707000"/>
            <a:ext cx="72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Cámaras IP relacionadas con las zonas de activ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Permite conectarse a las cámaras IP existentes e ingresadas al sist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Permite además asociar la cámara a mostrar con la zona de la Alarma Activ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1"/>
          <a:stretch/>
        </p:blipFill>
        <p:spPr>
          <a:xfrm>
            <a:off x="3419640" y="549360"/>
            <a:ext cx="5391000" cy="4143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"/>
          <p:cNvPicPr/>
          <p:nvPr/>
        </p:nvPicPr>
        <p:blipFill>
          <a:blip r:embed="rId2"/>
          <a:stretch/>
        </p:blipFill>
        <p:spPr>
          <a:xfrm>
            <a:off x="785880" y="419040"/>
            <a:ext cx="4071960" cy="428796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7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323" name="Picture 8" descr="j0293240"/>
            <p:cNvPicPr/>
            <p:nvPr/>
          </p:nvPicPr>
          <p:blipFill>
            <a:blip r:embed="rId3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9"/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9 Flecha derecha"/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116000" y="1523880"/>
            <a:ext cx="3843360" cy="2795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5435640" y="1523880"/>
            <a:ext cx="2600280" cy="2943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1619280" y="4869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Basado en la Tecnología  NET Framework y Administración de Bases de Datos Mysql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6">
            <a:hlinkClick r:id="rId1" action="ppaction://hlinksldjump"/>
          </p:cNvPr>
          <p:cNvSpPr/>
          <p:nvPr/>
        </p:nvSpPr>
        <p:spPr>
          <a:xfrm>
            <a:off x="827640" y="62064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Monitoreo de Alar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7">
            <a:hlinkClick r:id="rId2" action="ppaction://hlinksldjump"/>
          </p:cNvPr>
          <p:cNvSpPr/>
          <p:nvPr/>
        </p:nvSpPr>
        <p:spPr>
          <a:xfrm>
            <a:off x="828720" y="1193760"/>
            <a:ext cx="288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Bitácora de Nove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8">
            <a:hlinkClick r:id="rId3" action="ppaction://hlinksldjump"/>
          </p:cNvPr>
          <p:cNvSpPr/>
          <p:nvPr/>
        </p:nvSpPr>
        <p:spPr>
          <a:xfrm>
            <a:off x="827640" y="1744560"/>
            <a:ext cx="19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Pizarra Dig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9">
            <a:hlinkClick r:id="rId4" action="ppaction://hlinksldjump"/>
          </p:cNvPr>
          <p:cNvSpPr/>
          <p:nvPr/>
        </p:nvSpPr>
        <p:spPr>
          <a:xfrm>
            <a:off x="838440" y="2313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Recepción de Alarmas hasta 8 Recept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0">
            <a:hlinkClick r:id="rId5" action="ppaction://hlinksldjump"/>
          </p:cNvPr>
          <p:cNvSpPr/>
          <p:nvPr/>
        </p:nvSpPr>
        <p:spPr>
          <a:xfrm>
            <a:off x="834840" y="2889360"/>
            <a:ext cx="445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Módulo GPRS para recepción en 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2">
            <a:hlinkClick r:id="rId6" action="ppaction://hlinksldjump"/>
          </p:cNvPr>
          <p:cNvSpPr/>
          <p:nvPr/>
        </p:nvSpPr>
        <p:spPr>
          <a:xfrm>
            <a:off x="835200" y="3465360"/>
            <a:ext cx="51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Conexión IP a receptores System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3">
            <a:hlinkClick r:id="rId7" action="ppaction://hlinksldjump"/>
          </p:cNvPr>
          <p:cNvSpPr/>
          <p:nvPr/>
        </p:nvSpPr>
        <p:spPr>
          <a:xfrm>
            <a:off x="827280" y="4014720"/>
            <a:ext cx="49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Envío automático de correos electrón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9">
            <a:hlinkClick r:id="rId8" action="ppaction://hlinksldjump"/>
          </p:cNvPr>
          <p:cNvSpPr/>
          <p:nvPr/>
        </p:nvSpPr>
        <p:spPr>
          <a:xfrm>
            <a:off x="853200" y="554976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8 Imágenes por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836280" y="5084640"/>
            <a:ext cx="58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Acceso Web permite obtener reportes por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827280" y="4565520"/>
            <a:ext cx="61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Envío de Mensajes SMS hasta 8 Números por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7">
            <a:hlinkClick r:id="rId1" action="ppaction://hlinksldjump"/>
          </p:cNvPr>
          <p:cNvSpPr/>
          <p:nvPr/>
        </p:nvSpPr>
        <p:spPr>
          <a:xfrm>
            <a:off x="2173680" y="3789360"/>
            <a:ext cx="47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Recordatorio de Eventos por tempora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>
            <a:hlinkClick r:id="rId2" action="ppaction://hlinksldjump"/>
          </p:cNvPr>
          <p:cNvSpPr/>
          <p:nvPr/>
        </p:nvSpPr>
        <p:spPr>
          <a:xfrm>
            <a:off x="1469520" y="5149800"/>
            <a:ext cx="62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Cámaras IP relacionadas con las zonas de activ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0">
            <a:hlinkClick r:id="rId3" action="ppaction://hlinksldjump"/>
          </p:cNvPr>
          <p:cNvSpPr/>
          <p:nvPr/>
        </p:nvSpPr>
        <p:spPr>
          <a:xfrm>
            <a:off x="1115640" y="1341360"/>
            <a:ext cx="41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Manejo de Particiones Intelig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1">
            <a:hlinkClick r:id="rId4" action="ppaction://hlinksldjump"/>
          </p:cNvPr>
          <p:cNvSpPr/>
          <p:nvPr/>
        </p:nvSpPr>
        <p:spPr>
          <a:xfrm>
            <a:off x="2172960" y="2708280"/>
            <a:ext cx="50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Organización de recepción por Es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8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31" name="Picture 9" descr="j0293240"/>
            <p:cNvPicPr/>
            <p:nvPr/>
          </p:nvPicPr>
          <p:blipFill>
            <a:blip r:embed="rId1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10">
              <a:hlinkClick r:id="rId2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3" name="Picture 6" descr=""/>
          <p:cNvPicPr/>
          <p:nvPr/>
        </p:nvPicPr>
        <p:blipFill>
          <a:blip r:embed="rId3"/>
          <a:stretch/>
        </p:blipFill>
        <p:spPr>
          <a:xfrm>
            <a:off x="1622520" y="461880"/>
            <a:ext cx="5897520" cy="4592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684360" y="5300640"/>
            <a:ext cx="777528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Monitoreo de Alar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el ingreso de eventos en cola de recep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Se organizan automáticamente por Pri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atender cualquiera de los eventos sin discriminación</a:t>
            </a: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8 Flecha derecha">
            <a:hlinkClick r:id="rId4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2041560" y="442800"/>
            <a:ext cx="4618080" cy="39657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755640" y="4653000"/>
            <a:ext cx="7632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Atención  de Ev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Una Vez atendido el eventos muestra en detalle toda la información necesaria para que el Operador brinde atención oportuna de acuerdo a la urg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6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39" name="Picture 7" descr="j0293240"/>
            <p:cNvPicPr/>
            <p:nvPr/>
          </p:nvPicPr>
          <p:blipFill>
            <a:blip r:embed="rId2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8">
              <a:hlinkClick r:id="rId3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8 Flecha derecha">
            <a:hlinkClick r:id="rId4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1920960" y="428760"/>
            <a:ext cx="5302080" cy="32050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1042920" y="3846600"/>
            <a:ext cx="754056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Bitácora de Nove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llevar un registro de los eventos ocurridos en el turno fuera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del monitoreo de alar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Mantiene bases de datos paralelas que almacenan la información en forma separ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Tiene la opción de relacionar eventos recibidos de los sistemas de alarma para que sean registrados en Bitáco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6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45" name="Picture 7" descr="j0293240"/>
            <p:cNvPicPr/>
            <p:nvPr/>
          </p:nvPicPr>
          <p:blipFill>
            <a:blip r:embed="rId2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8">
              <a:hlinkClick r:id="rId3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8 Flecha derecha">
            <a:hlinkClick r:id="rId4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1258920" y="428760"/>
            <a:ext cx="6418080" cy="46623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971640" y="5516640"/>
            <a:ext cx="720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Pizarra Dig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Permite llevar un registro y controlar los requerimientos de mantenimiento y manejo de consignas de los operado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51" name="Picture 8" descr="j0293240"/>
            <p:cNvPicPr/>
            <p:nvPr/>
          </p:nvPicPr>
          <p:blipFill>
            <a:blip r:embed="rId2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9">
              <a:hlinkClick r:id="rId3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8 Flecha derecha">
            <a:hlinkClick r:id="rId4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2000160" y="566640"/>
            <a:ext cx="5200920" cy="43783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971640" y="5084640"/>
            <a:ext cx="72007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Recepción de Alarmas hasta 8 Recept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Se pueden configurar hasta 8 receptores simultáneamente a través de puertos de seri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</a:rPr>
              <a:t>Compatible con los protocolos de comunicación más conoci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7677000" y="5703840"/>
            <a:ext cx="1565280" cy="1154160"/>
            <a:chOff x="7677000" y="5703840"/>
            <a:chExt cx="1565280" cy="1154160"/>
          </a:xfrm>
        </p:grpSpPr>
        <p:pic>
          <p:nvPicPr>
            <p:cNvPr id="257" name="Picture 7" descr="j0293240"/>
            <p:cNvPicPr/>
            <p:nvPr/>
          </p:nvPicPr>
          <p:blipFill>
            <a:blip r:embed="rId2"/>
            <a:stretch/>
          </p:blipFill>
          <p:spPr>
            <a:xfrm>
              <a:off x="7677000" y="5703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8">
              <a:hlinkClick r:id="rId3" action="ppaction://hlinksldjump"/>
            </p:cNvPr>
            <p:cNvSpPr/>
            <p:nvPr/>
          </p:nvSpPr>
          <p:spPr>
            <a:xfrm>
              <a:off x="8247600" y="63720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ffff"/>
                  </a:solidFill>
                  <a:latin typeface="Arial"/>
                </a:rPr>
                <a:t>Inic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8 Flecha derecha">
            <a:hlinkClick r:id="rId4" action="ppaction://hlinksldjump"/>
          </p:cNvPr>
          <p:cNvSpPr/>
          <p:nvPr/>
        </p:nvSpPr>
        <p:spPr>
          <a:xfrm rot="10800000">
            <a:off x="208080" y="285480"/>
            <a:ext cx="363600" cy="3348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3:34:53Z</dcterms:created>
  <dc:creator>Espejo Monitoreo</dc:creator>
  <dc:description/>
  <dc:language>en-US</dc:language>
  <cp:lastModifiedBy>Espejo Monitoreo</cp:lastModifiedBy>
  <dcterms:modified xsi:type="dcterms:W3CDTF">2013-06-12T15:56:08Z</dcterms:modified>
  <cp:revision>8</cp:revision>
  <dc:subject/>
  <dc:title>Diapositiva 1</dc:title>
</cp:coreProperties>
</file>