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49C-DC04-4F27-81DE-AE509DA3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23B-EBFE-4C71-86BD-2FA51DEE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437-8344-449A-BCB5-CDDFF03E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8F0-9BA5-47B1-AE21-C3EABE6C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400A-9E34-4BB0-9FEC-73ABE862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7C09-AB1D-40AB-8F14-BF1B39A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F1D-9C72-471C-B250-0C4212B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FAAF-AA2E-44E2-B3B5-A2400F6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979C-92EC-4092-A9AC-A5538A3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80F-A1FB-4F5A-9D9D-E8989F70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EFD8-8C9B-41CC-8DA9-E6425A7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AF2-8D5D-4049-ACDC-4BE6B47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6861-0D10-428D-964B-36D7234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9D6-566D-4487-ABB9-FAD24F5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CFF-2CAA-4019-8F32-14A9F6B5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F47D-88AF-4BD1-993C-92509186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DA1-D01B-4863-AA42-13C1E67B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62C-D795-4231-B3E9-D8222A89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5CD-5C04-4931-B394-85E9FC03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2A0-2446-4B25-8B8C-09428DC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894-5EEC-421E-9127-942B638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8A2-7B9A-44AE-A281-04F7F14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505-4617-4E62-BA14-9F6691C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FF8-FC49-4560-BB25-65B51E9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49A-21E4-49EC-A4D4-65D9E74A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0025-F9A5-42AB-9529-20E6FD47E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a0b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383a66"/>
                </a:solidFill>
                <a:latin typeface="Bitstream Vera Sans Mono"/>
              </a:rPr>
              <a:t>Sistema Integrad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900000" y="5157720"/>
            <a:ext cx="7320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ódulo GPRS para recepción en 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a recepción de módulos GPRS a través de RED en protocolo 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2050920" y="2014560"/>
            <a:ext cx="1866960" cy="2828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3344760" cy="3622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64" name="Picture 9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0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934920" y="4941720"/>
            <a:ext cx="727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onexión IP a receptores Sys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habilitar la automatización de recepción de eventos a través de Puerto TCP/IP omitiendo la conexión de cable serial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3449520" cy="3857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3000240" cy="12096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71" name="Picture 9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0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971640" y="4869000"/>
            <a:ext cx="7272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correos electr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envío automático de correos cada vez que se reciba un evento marcado para enviar reporte a través de un servidor SMT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565200" y="1886040"/>
            <a:ext cx="4006800" cy="1779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3816360" cy="290052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78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9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83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10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5745240" cy="4292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971640" y="4869000"/>
            <a:ext cx="727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Mensajes 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envío automático de mensajes cada vez que se reciba un evento marcado para enviar reporte a través de un Módem GSM hasta 8 números telefón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89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0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08080" y="981000"/>
            <a:ext cx="4147920" cy="2351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4248000" cy="3021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971640" y="4869000"/>
            <a:ext cx="7272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portes WEB a travé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al Cliente acceder a su Cuenta de Monitoreo Vía Internet y obtener reportes del sistema de monitoreo de forma direc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971640" y="482904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8 Imágene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ingresar 8 imágenes referentes a Áreas sensibles, Plano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l Operador en caso de un evento emergente puede guiar de mejor manera a la patrulla de apoyo durante la verificación fís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472000" cy="41670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97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8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971640" y="494172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anejo de Particiones Intelig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Permite administrar por particiones independientes, únicamente con una cuenta universal el sistema identifica de que particón se recibe el evento, toda la información referente a la partición es independiente, horarios, usuarios, zonas, test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809720" y="561960"/>
            <a:ext cx="5524560" cy="43354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03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809720" y="260280"/>
            <a:ext cx="5524560" cy="4335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857160" y="4595760"/>
            <a:ext cx="7388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Organización de recepción por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organizar la recepción independizada por es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jemplo, si el cliente se muestra en Estación 1 los eventos no se muestran en otras estaciones y tampoco los eventos de estas en la Estación 1, si la estación no está abierta se muestran los eventos en el Servi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09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971640" y="4869000"/>
            <a:ext cx="72007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ordatorio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ingresar eventos de alerta adicionales ya sea por Consignas o Mensajes Emergentes del C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jemplo si un cliente se va de vacaciones, configuramos para que el sistema muestre una alerta cuando se reciba un even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5432400" cy="3472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5076720" y="1886040"/>
            <a:ext cx="3791160" cy="298296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16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971640" y="470700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ámaras IP relacionadas con las zonas de activ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ermite conectarse a las cámaras IP existentes e ingresadas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ermite además asociar la cámara a mostrar con la zona de la Alarma Activ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5391000" cy="41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785880" y="419040"/>
            <a:ext cx="4071960" cy="42879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23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9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3843360" cy="2795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435640" y="1523880"/>
            <a:ext cx="2600280" cy="2943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486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Basado en la Tecnología  NET Framework y Administración de Bases de Datos Mysql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>
            <a:hlinkClick r:id="rId1" action="ppaction://hlinksldjump"/>
          </p:cNvPr>
          <p:cNvSpPr/>
          <p:nvPr/>
        </p:nvSpPr>
        <p:spPr>
          <a:xfrm>
            <a:off x="827640" y="62064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onitoreo de Ala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>
            <a:hlinkClick r:id="rId2" action="ppaction://hlinksldjump"/>
          </p:cNvPr>
          <p:cNvSpPr/>
          <p:nvPr/>
        </p:nvSpPr>
        <p:spPr>
          <a:xfrm>
            <a:off x="828720" y="1193760"/>
            <a:ext cx="28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Bitácora de Nove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>
            <a:hlinkClick r:id="rId3" action="ppaction://hlinksldjump"/>
          </p:cNvPr>
          <p:cNvSpPr/>
          <p:nvPr/>
        </p:nvSpPr>
        <p:spPr>
          <a:xfrm>
            <a:off x="827640" y="174456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Pizarr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>
            <a:hlinkClick r:id="rId4" action="ppaction://hlinksldjump"/>
          </p:cNvPr>
          <p:cNvSpPr/>
          <p:nvPr/>
        </p:nvSpPr>
        <p:spPr>
          <a:xfrm>
            <a:off x="838440" y="2313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epción de Alarmas hasta 8 Recep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>
            <a:hlinkClick r:id="rId5" action="ppaction://hlinksldjump"/>
          </p:cNvPr>
          <p:cNvSpPr/>
          <p:nvPr/>
        </p:nvSpPr>
        <p:spPr>
          <a:xfrm>
            <a:off x="834840" y="2889360"/>
            <a:ext cx="44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ódulo GPRS para recepción en 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>
            <a:hlinkClick r:id="rId6" action="ppaction://hlinksldjump"/>
          </p:cNvPr>
          <p:cNvSpPr/>
          <p:nvPr/>
        </p:nvSpPr>
        <p:spPr>
          <a:xfrm>
            <a:off x="835200" y="346536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onexión IP a receptores Sys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>
            <a:hlinkClick r:id="rId7" action="ppaction://hlinksldjump"/>
          </p:cNvPr>
          <p:cNvSpPr/>
          <p:nvPr/>
        </p:nvSpPr>
        <p:spPr>
          <a:xfrm>
            <a:off x="827280" y="4014720"/>
            <a:ext cx="49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correos electr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>
            <a:hlinkClick r:id="rId8" action="ppaction://hlinksldjump"/>
          </p:cNvPr>
          <p:cNvSpPr/>
          <p:nvPr/>
        </p:nvSpPr>
        <p:spPr>
          <a:xfrm>
            <a:off x="853200" y="55497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8 Imágene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836280" y="5084640"/>
            <a:ext cx="58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Acceso Web permite obtener reportes por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827280" y="4565520"/>
            <a:ext cx="61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de Mensajes SMS hasta 8 Número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7">
            <a:hlinkClick r:id="rId1" action="ppaction://hlinksldjump"/>
          </p:cNvPr>
          <p:cNvSpPr/>
          <p:nvPr/>
        </p:nvSpPr>
        <p:spPr>
          <a:xfrm>
            <a:off x="2173680" y="3789360"/>
            <a:ext cx="47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ordatorio de Eventos por tempor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>
            <a:hlinkClick r:id="rId2" action="ppaction://hlinksldjump"/>
          </p:cNvPr>
          <p:cNvSpPr/>
          <p:nvPr/>
        </p:nvSpPr>
        <p:spPr>
          <a:xfrm>
            <a:off x="1469520" y="5149800"/>
            <a:ext cx="62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ámaras IP relacionadas con las zonas de activ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0">
            <a:hlinkClick r:id="rId3" action="ppaction://hlinksldjump"/>
          </p:cNvPr>
          <p:cNvSpPr/>
          <p:nvPr/>
        </p:nvSpPr>
        <p:spPr>
          <a:xfrm>
            <a:off x="1115640" y="134136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anejo de Particiones Intelig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>
            <a:hlinkClick r:id="rId4" action="ppaction://hlinksldjump"/>
          </p:cNvPr>
          <p:cNvSpPr/>
          <p:nvPr/>
        </p:nvSpPr>
        <p:spPr>
          <a:xfrm>
            <a:off x="2172960" y="2708280"/>
            <a:ext cx="50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Organización de recepción por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31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0">
              <a:hlinkClick r:id="rId2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1622520" y="461880"/>
            <a:ext cx="5897520" cy="4592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684360" y="5300640"/>
            <a:ext cx="77752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onitoreo de Ala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ingreso de eventos en cola de rece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Se organizan automáticamente por P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atender cualquiera de los eventos sin discriminación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041560" y="442800"/>
            <a:ext cx="4618080" cy="3965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755640" y="4653000"/>
            <a:ext cx="7632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Atención 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Una Vez atendido el eventos muestra en detalle toda la información necesaria para que el Operador brinde atención oportuna de acuerdo a la urg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39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920960" y="428760"/>
            <a:ext cx="5302080" cy="3205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042920" y="3846600"/>
            <a:ext cx="75405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Bitácora de Nove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levar un registro de los eventos ocurridos en el turno fuera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del monitoreo de ala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Mantiene bases de datos paralelas que almacenan la información en forma sepa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Tiene la opción de relacionar eventos recibidos de los sistemas de alarma para que sean registrados en Bitác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45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258920" y="428760"/>
            <a:ext cx="6418080" cy="466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971640" y="5516640"/>
            <a:ext cx="72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Pizarr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levar un registro y controlar los requerimientos de mantenimiento y manejo de consignas de los oper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51" name="Picture 8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2000160" y="566640"/>
            <a:ext cx="5200920" cy="4378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971640" y="508464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epción de Alarmas hasta 8 Recep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Se pueden configurar hasta 8 receptores simultáneamente a través de puertos de ser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Compatible con los protocolos de comunicación más conoc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57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34:53Z</dcterms:created>
  <dc:creator>Espejo Monitoreo</dc:creator>
  <dc:description/>
  <dc:language>en-US</dc:language>
  <cp:lastModifiedBy>Espejo Monitoreo</cp:lastModifiedBy>
  <dcterms:modified xsi:type="dcterms:W3CDTF">2013-06-12T15:56:08Z</dcterms:modified>
  <cp:revision>8</cp:revision>
  <dc:subject/>
  <dc:title>Diapositiva 1</dc:title>
</cp:coreProperties>
</file>